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24A809-0702-4026-BCD1-4CBD1957D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84960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4000" y="3728880"/>
            <a:ext cx="84960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3FD832-D687-459E-8F24-4977E0CD7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748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24000" y="372888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7480" y="372888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4F11CD-6297-4C46-AE5C-5DFC13E96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96800" y="90792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69600" y="90792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24000" y="372888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96800" y="372888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69600" y="372888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2AFB87-78DE-428E-891D-EA0FB117A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41457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7480" y="907920"/>
            <a:ext cx="41457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08000" y="191160"/>
            <a:ext cx="8928000" cy="199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7480" y="907920"/>
            <a:ext cx="41457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324000" y="372888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A2693B-9F13-48DF-9D65-C24D7A93C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41457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748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7480" y="372888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748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24000" y="3728880"/>
            <a:ext cx="84960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84960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24000" y="3728880"/>
            <a:ext cx="84960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748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24000" y="372888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7480" y="372888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196800" y="90792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69600" y="90792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24000" y="372888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196800" y="372888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69600" y="372888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DEFA7B-A21F-4EF5-94C9-B1C113F2601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CDE217-D88A-41D8-98E6-BDA0F081CD9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E42893-BD19-4C1D-82CD-6F4BC9A5B20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41457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7480" y="907920"/>
            <a:ext cx="41457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292C18-51A0-4E7D-8B24-A561E1313AE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F6DCEC-A444-4990-8859-9DF66C58FBB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FA89E8-3697-4774-9DDE-EA3235F93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108000" y="191160"/>
            <a:ext cx="8928000" cy="199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0F9656-9A1E-49AC-B60D-7B858C92EB5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7480" y="907920"/>
            <a:ext cx="41457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324000" y="372888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F1CDD8-455F-455F-AB80-2870FF9AA47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41457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748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7480" y="372888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91F7C2-4957-497F-9F04-ED3BDB881EF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748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324000" y="3728880"/>
            <a:ext cx="84960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60714E-C837-4D76-8B3E-A16D479FFF0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84960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4000" y="3728880"/>
            <a:ext cx="84960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F3D056-355D-4B42-805C-81E8AC275A2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748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324000" y="372888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7480" y="372888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1CA7E0-BDFC-46E5-AD83-CD079E24D09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196800" y="90792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69600" y="90792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324000" y="372888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196800" y="372888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69600" y="372888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C0DD6D-89BA-4B9A-A0D0-C415EFD84E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41457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7480" y="907920"/>
            <a:ext cx="41457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C36633-4B76-43EE-8ECE-4350E9C9F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58BFC1-689F-47D8-AE3F-4C5615F5C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8000" y="191160"/>
            <a:ext cx="8928000" cy="199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29B0DF-1E52-439A-8C04-54E167014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7480" y="907920"/>
            <a:ext cx="41457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24000" y="372888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477F1E-CCA3-4A15-8B2B-0EC210DF6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41457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748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7480" y="372888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D1F61F-7F1E-463A-BB8E-7E223A4F5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748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24000" y="3728880"/>
            <a:ext cx="84960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51371E-CB8A-4032-A51B-36F3F5FB3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353535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2" descr="bg_master_main_shadowed"/>
          <p:cNvPicPr/>
          <p:nvPr/>
        </p:nvPicPr>
        <p:blipFill>
          <a:blip r:embed="rId2"/>
          <a:stretch/>
        </p:blipFill>
        <p:spPr>
          <a:xfrm>
            <a:off x="0" y="719280"/>
            <a:ext cx="9150480" cy="6138720"/>
          </a:xfrm>
          <a:prstGeom prst="rect">
            <a:avLst/>
          </a:prstGeom>
          <a:ln w="0">
            <a:noFill/>
          </a:ln>
        </p:spPr>
      </p:pic>
      <p:pic>
        <p:nvPicPr>
          <p:cNvPr id="1" name="Picture 11" descr="수정3"/>
          <p:cNvPicPr/>
          <p:nvPr/>
        </p:nvPicPr>
        <p:blipFill>
          <a:blip r:embed="rId3"/>
          <a:stretch/>
        </p:blipFill>
        <p:spPr>
          <a:xfrm>
            <a:off x="69840" y="60480"/>
            <a:ext cx="9004320" cy="687240"/>
          </a:xfrm>
          <a:prstGeom prst="rect">
            <a:avLst/>
          </a:prstGeom>
          <a:ln w="0">
            <a:noFill/>
          </a:ln>
        </p:spPr>
      </p:pic>
      <p:sp>
        <p:nvSpPr>
          <p:cNvPr id="2" name="Rectangle 12"/>
          <p:cNvSpPr/>
          <p:nvPr/>
        </p:nvSpPr>
        <p:spPr>
          <a:xfrm>
            <a:off x="166680" y="162000"/>
            <a:ext cx="831708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sldNum" idx="1"/>
          </p:nvPr>
        </p:nvSpPr>
        <p:spPr>
          <a:xfrm>
            <a:off x="8388360" y="6428880"/>
            <a:ext cx="606240" cy="26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ahoma"/>
                <a:ea typeface="돋움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B73B2-A7D2-4C50-A121-4448199D2550}" type="slidenum">
              <a:rPr b="0" lang="en-US" sz="1000" spc="-1" strike="noStrike">
                <a:solidFill>
                  <a:srgbClr val="969696"/>
                </a:solidFill>
                <a:latin typeface="Tahoma"/>
                <a:ea typeface="돋움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body"/>
          </p:nvPr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270000" indent="-2700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270000" indent="-2700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270000" indent="-2700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70000" indent="-2700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70000" indent="-2700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70000" indent="-2700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dt" idx="2"/>
          </p:nvPr>
        </p:nvSpPr>
        <p:spPr>
          <a:xfrm>
            <a:off x="205920" y="6453000"/>
            <a:ext cx="2133720" cy="2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000" spc="-1" strike="noStrike">
                <a:solidFill>
                  <a:srgbClr val="969696"/>
                </a:solidFill>
                <a:latin typeface="Tahoma"/>
                <a:ea typeface="돋움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969696"/>
                </a:solidFill>
                <a:latin typeface="Tahoma"/>
                <a:ea typeface="돋움"/>
              </a:rPr>
              <a:t>2000-00-0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ftr" idx="3"/>
          </p:nvPr>
        </p:nvSpPr>
        <p:spPr>
          <a:xfrm>
            <a:off x="3124080" y="6497280"/>
            <a:ext cx="2895840" cy="2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6d6d6d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표지9안"/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270000" indent="-2700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270000" indent="-2700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270000" indent="-2700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70000" indent="-2700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70000" indent="-2700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70000" indent="-2700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353535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2" descr="bg_master_main_shadowed"/>
          <p:cNvPicPr/>
          <p:nvPr/>
        </p:nvPicPr>
        <p:blipFill>
          <a:blip r:embed="rId2"/>
          <a:stretch/>
        </p:blipFill>
        <p:spPr>
          <a:xfrm>
            <a:off x="0" y="719280"/>
            <a:ext cx="9150480" cy="61387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1" descr="수정3"/>
          <p:cNvPicPr/>
          <p:nvPr/>
        </p:nvPicPr>
        <p:blipFill>
          <a:blip r:embed="rId3"/>
          <a:stretch/>
        </p:blipFill>
        <p:spPr>
          <a:xfrm>
            <a:off x="69840" y="60480"/>
            <a:ext cx="9004320" cy="68724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12"/>
          <p:cNvSpPr/>
          <p:nvPr/>
        </p:nvSpPr>
        <p:spPr>
          <a:xfrm>
            <a:off x="166680" y="162000"/>
            <a:ext cx="831708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270000" indent="-2700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270000" indent="-2700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270000" indent="-2700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70000" indent="-2700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70000" indent="-2700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70000" indent="-2700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Num" idx="4"/>
          </p:nvPr>
        </p:nvSpPr>
        <p:spPr>
          <a:xfrm>
            <a:off x="8388360" y="6428880"/>
            <a:ext cx="606240" cy="26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ahoma"/>
                <a:ea typeface="돋움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D3915-6D43-4A8E-8034-EA77C218293A}" type="slidenum">
              <a:rPr b="0" lang="en-US" sz="1000" spc="-1" strike="noStrike">
                <a:solidFill>
                  <a:srgbClr val="969696"/>
                </a:solidFill>
                <a:latin typeface="Tahoma"/>
                <a:ea typeface="돋움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5"/>
          </p:nvPr>
        </p:nvSpPr>
        <p:spPr>
          <a:xfrm>
            <a:off x="3124080" y="6497280"/>
            <a:ext cx="2895840" cy="2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304720"/>
            <a:ext cx="77724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ffff"/>
                </a:solidFill>
                <a:latin typeface="Tahoma"/>
              </a:rPr>
              <a:t>Metin2 Server Win32 Port</a:t>
            </a:r>
            <a:endParaRPr b="1" lang="en-US" sz="3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4627080"/>
            <a:ext cx="6400800" cy="10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HY헤드라인M"/>
              </a:rPr>
              <a:t>jaykang@webzen.co.k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HY헤드라인M"/>
              </a:rPr>
              <a:t>2011. 07. 2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8000" y="192240"/>
            <a:ext cx="8928000" cy="42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ffff"/>
                </a:solidFill>
                <a:latin typeface="Tahoma"/>
              </a:rPr>
              <a:t>작업 시 주의</a:t>
            </a: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ko-KR" sz="2200" spc="-1" strike="noStrike">
                <a:solidFill>
                  <a:srgbClr val="ffffff"/>
                </a:solidFill>
                <a:latin typeface="Tahoma"/>
              </a:rPr>
              <a:t>사항</a:t>
            </a: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: FreeBSD</a:t>
            </a: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reeBSD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에서 리소스 파일 등에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ymbolic Link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사용 금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indows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ubversion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을 통해 해당 파일들을 내려 받으면 인식 불가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기존 맵 인덱스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78, 209, 210, 211, 215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에 사용된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ymbolic link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는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실제 파일로 대체할 필요가 있음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슬라이드 번호 개체 틀 3"/>
          <p:cNvSpPr/>
          <p:nvPr/>
        </p:nvSpPr>
        <p:spPr>
          <a:xfrm>
            <a:off x="8388360" y="6429240"/>
            <a:ext cx="60624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A4B7C-C5D6-4B22-9A43-BD7D8D750F65}" type="slidenum">
              <a:rPr b="0" lang="en-US" sz="1000" spc="-1" strike="noStrike">
                <a:solidFill>
                  <a:srgbClr val="969696"/>
                </a:solidFill>
                <a:latin typeface="Tahoma"/>
                <a:ea typeface="돋움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8000" y="192240"/>
            <a:ext cx="8928000" cy="42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ffff"/>
                </a:solidFill>
                <a:latin typeface="Tahoma"/>
              </a:rPr>
              <a:t>작업 시 주의 사항</a:t>
            </a: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: Windows/VisualStudio</a:t>
            </a: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 u="sng">
                <a:solidFill>
                  <a:srgbClr val="000000"/>
                </a:solidFill>
                <a:uFillTx/>
                <a:latin typeface="Tahoma"/>
              </a:rPr>
              <a:t>개발은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Windows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Tahoma"/>
              </a:rPr>
              <a:t>에서 하더라도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,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Tahoma"/>
              </a:rPr>
              <a:t>대상 플랫폼은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FreeBSD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Tahoma"/>
              </a:rPr>
              <a:t>다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!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indows API, Microsoft CRT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함수 직접 호출 금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reeBSD Counterpart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를 찾아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, FreeBSD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중심으로 코딩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__WIN32__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전처리기 매크로 안에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indows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용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emulation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구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개발 테스트가 끝나면 반드시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reeBSD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개발 서버에서 빌드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확인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슬라이드 번호 개체 틀 3"/>
          <p:cNvSpPr/>
          <p:nvPr/>
        </p:nvSpPr>
        <p:spPr>
          <a:xfrm>
            <a:off x="8388360" y="6429240"/>
            <a:ext cx="60624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0DC2F-B484-4501-8F3D-69DEB799FB9E}" type="slidenum">
              <a:rPr b="0" lang="en-US" sz="1000" spc="-1" strike="noStrike">
                <a:solidFill>
                  <a:srgbClr val="969696"/>
                </a:solidFill>
                <a:latin typeface="Tahoma"/>
                <a:ea typeface="돋움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8000" y="192240"/>
            <a:ext cx="8928000" cy="42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ffff"/>
                </a:solidFill>
                <a:latin typeface="Tahoma"/>
              </a:rPr>
              <a:t>배경</a:t>
            </a: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552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etin2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서버 배포 대상 플랫폼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: FreeBSD 7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552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특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552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KQueu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552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reeBSD 4.1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이후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*BSD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계열로 확대된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lect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대안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552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ublisher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관점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552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KQueue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로 서비스에 충분한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I/O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성능 제공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552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OS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비용 절감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552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개발자 관점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552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reeBSD Console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작업 환경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552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db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디버깅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552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552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두 가지 모두가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indows &amp; VisualStudio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중심으로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552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작업해 오던 개발자들에게는 매우 가파른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learning curve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로 작용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552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&gt;&gt;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개발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테스트를 위한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indows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작업 환경 구축 요구 발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552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552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552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슬라이드 번호 개체 틀 3"/>
          <p:cNvSpPr/>
          <p:nvPr/>
        </p:nvSpPr>
        <p:spPr>
          <a:xfrm>
            <a:off x="8388360" y="6429240"/>
            <a:ext cx="60624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C0DD9-B576-4EE7-AD9D-76F943F7EAAA}" type="slidenum">
              <a:rPr b="0" lang="en-US" sz="1000" spc="-1" strike="noStrike">
                <a:solidFill>
                  <a:srgbClr val="969696"/>
                </a:solidFill>
                <a:latin typeface="Tahoma"/>
                <a:ea typeface="돋움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1" name="날짜 개체 틀 4"/>
          <p:cNvSpPr/>
          <p:nvPr/>
        </p:nvSpPr>
        <p:spPr>
          <a:xfrm>
            <a:off x="206280" y="6453360"/>
            <a:ext cx="213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969696"/>
                </a:solidFill>
                <a:latin typeface="Tahoma"/>
                <a:ea typeface="돋움"/>
              </a:rPr>
              <a:t>2000-00-00</a:t>
            </a:r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8000" y="192240"/>
            <a:ext cx="8928000" cy="42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ffff"/>
                </a:solidFill>
                <a:latin typeface="Tahoma"/>
              </a:rPr>
              <a:t>게임</a:t>
            </a: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ko-KR" sz="2200" spc="-1" strike="noStrike">
                <a:solidFill>
                  <a:srgbClr val="ffffff"/>
                </a:solidFill>
                <a:latin typeface="Tahoma"/>
              </a:rPr>
              <a:t>서버 </a:t>
            </a: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Cross-Platform </a:t>
            </a:r>
            <a:r>
              <a:rPr b="1" lang="ko-KR" sz="2200" spc="-1" strike="noStrike">
                <a:solidFill>
                  <a:srgbClr val="ffffff"/>
                </a:solidFill>
                <a:latin typeface="Tahoma"/>
              </a:rPr>
              <a:t>개발의 장단점</a:t>
            </a: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장점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개발과 실제 배포는 필요나 선호에 따라 선택된 독립적인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OS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에서 진행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개발자 각자 익숙한 작업 환경 선택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indows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에서 개발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, FreeBSD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에서 테스트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배포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단점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개발 환경과 실 배포 환경의 차이는 여러 가지 잠재적인 문제 내포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가장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대표적인 문제는 개발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배포 환경에서의 서로 다른 동작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특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두 플랫폼 이상에서의 빌드와 동작을 유지하는 것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한 플랫폼만 대상으로 하는 것보다 비용이 높아질 수 있음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단점에도 불구하고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한정된 조건에서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sualStudio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의 개발 생산성으로 얻는 이득이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충분히 클 것으로 예상됨에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따라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indows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포팅 결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슬라이드 번호 개체 틀 3"/>
          <p:cNvSpPr/>
          <p:nvPr/>
        </p:nvSpPr>
        <p:spPr>
          <a:xfrm>
            <a:off x="8388360" y="6429240"/>
            <a:ext cx="60624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D4B8D-A3F5-433C-8106-09341E598EFC}" type="slidenum">
              <a:rPr b="0" lang="en-US" sz="1000" spc="-1" strike="noStrike">
                <a:solidFill>
                  <a:srgbClr val="969696"/>
                </a:solidFill>
                <a:latin typeface="Tahoma"/>
                <a:ea typeface="돋움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8000" y="192240"/>
            <a:ext cx="8928000" cy="42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Cross-Platform</a:t>
            </a:r>
            <a:r>
              <a:rPr b="1" lang="ko-KR" sz="2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ko-KR" sz="2200" spc="-1" strike="noStrike">
                <a:solidFill>
                  <a:srgbClr val="ffffff"/>
                </a:solidFill>
                <a:latin typeface="Tahoma"/>
              </a:rPr>
              <a:t>개발의 걸림돌</a:t>
            </a: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1720" indent="-261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상이한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OS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기능과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PI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1720" indent="-261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특정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OS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만이 제공하는 기능을 이용하는 경우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1720" indent="-261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예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) Windows IOCP, Linux dev/epoll, FreeBSD KQueue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1720" indent="-261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특정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OS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만이 제공하는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PI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함수들을 사용하는 경우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1720" indent="-261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indows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외에는 거의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OSIX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표준에서 크게 벗어나지 않음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1720" indent="-261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1720" indent="-261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상이한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ompiler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기능과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Librar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1720" indent="-261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CC g++ vs Visual C++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1720" indent="-261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 Runtime Library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의 차이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1720" indent="-261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예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) glib vs Microsoft Secure CR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1720" indent="-261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ompiler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전용 기능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전용 키워드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표기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구문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지원 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1720" indent="-261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예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) gcc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는 매크로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함수에도 가변 인자 지원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1720" indent="-261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별도의 중립적인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TL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을 공통으로 사용하지 않는다면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1720" indent="-261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기본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TL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의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표준 외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확장 부분 및 세부 구현의 차이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1720" indent="-261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슬라이드 번호 개체 틀 3"/>
          <p:cNvSpPr/>
          <p:nvPr/>
        </p:nvSpPr>
        <p:spPr>
          <a:xfrm>
            <a:off x="8388360" y="6429240"/>
            <a:ext cx="60624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B0F17-DE0F-4BF0-9A46-205C5A354F3E}" type="slidenum">
              <a:rPr b="0" lang="en-US" sz="1000" spc="-1" strike="noStrike">
                <a:solidFill>
                  <a:srgbClr val="969696"/>
                </a:solidFill>
                <a:latin typeface="Tahoma"/>
                <a:ea typeface="돋움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8000" y="192240"/>
            <a:ext cx="8928000" cy="42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Cross-Platform </a:t>
            </a:r>
            <a:r>
              <a:rPr b="1" lang="ko-KR" sz="2200" spc="-1" strike="noStrike">
                <a:solidFill>
                  <a:srgbClr val="ffffff"/>
                </a:solidFill>
                <a:latin typeface="Tahoma"/>
              </a:rPr>
              <a:t>접근법</a:t>
            </a: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bstrac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독립적인 인터페이스 또는 계층을 작성하고 둘 이상의 세부 구현을 연동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초기 구현에 적합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[+]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ood desig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[-]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사용자가 독립적인 인터페이스 또는 계층을 숙지할 필요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작성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유지보수 비용 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Emul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한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쪽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PI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를 중심으로 다른 쪽에서 인터페이스를 맞추어 가는 방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기존 구현 확장에 적합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[+]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이미 잘 문서화된 기존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PI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를 그대로 사용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빠른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구현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적용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[-]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ot so good desig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시간 상의 이유로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또 과도한 비용 투입을 피하기 위해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Emulation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선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슬라이드 번호 개체 틀 3"/>
          <p:cNvSpPr/>
          <p:nvPr/>
        </p:nvSpPr>
        <p:spPr>
          <a:xfrm>
            <a:off x="8388360" y="6429240"/>
            <a:ext cx="60624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FB30B-1321-43B3-97A5-DB59DC45D44B}" type="slidenum">
              <a:rPr b="0" lang="en-US" sz="1000" spc="-1" strike="noStrike">
                <a:solidFill>
                  <a:srgbClr val="969696"/>
                </a:solidFill>
                <a:latin typeface="Tahoma"/>
                <a:ea typeface="돋움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8000" y="192240"/>
            <a:ext cx="8928000" cy="42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Metin2 </a:t>
            </a:r>
            <a:r>
              <a:rPr b="1" lang="ko-KR" sz="2200" spc="-1" strike="noStrike">
                <a:solidFill>
                  <a:srgbClr val="ffffff"/>
                </a:solidFill>
                <a:latin typeface="Tahoma"/>
              </a:rPr>
              <a:t>서버 </a:t>
            </a: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Windows/VisualStudio </a:t>
            </a:r>
            <a:r>
              <a:rPr b="1" lang="ko-KR" sz="2200" spc="-1" strike="noStrike">
                <a:solidFill>
                  <a:srgbClr val="ffffff"/>
                </a:solidFill>
                <a:latin typeface="Tahoma"/>
              </a:rPr>
              <a:t>포팅</a:t>
            </a: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arget Compiler: Microsoft Visual C++ 9.0 (Visual Studio 2008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작업 기간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: 2011-07-13(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수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) ~ 2011-07-20(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수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약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주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작업 개요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sual Studio 2008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솔루션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프로젝트 구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이미 코드에 존재하던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__WIN32__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전처리기 매크로로 조건부 컴파일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dwatch.c : KQueue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대신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insock select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사용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다룰 수 있는 소켓 최대 개수가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4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개로 제한되지만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개발 테스트용으로는 충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 Runtime Library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와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OS API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호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Tahoma"/>
              </a:rPr>
              <a:t>라이브 배포 대상인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FreeBSD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Tahoma"/>
              </a:rPr>
              <a:t>가 중심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!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indows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에서 지원되지 않는 부분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emul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슬라이드 번호 개체 틀 3"/>
          <p:cNvSpPr/>
          <p:nvPr/>
        </p:nvSpPr>
        <p:spPr>
          <a:xfrm>
            <a:off x="8388360" y="6429240"/>
            <a:ext cx="60624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E68AE-3E0F-4875-8138-89541905510B}" type="slidenum">
              <a:rPr b="0" lang="en-US" sz="1000" spc="-1" strike="noStrike">
                <a:solidFill>
                  <a:srgbClr val="969696"/>
                </a:solidFill>
                <a:latin typeface="Tahoma"/>
                <a:ea typeface="돋움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8000" y="192240"/>
            <a:ext cx="8928000" cy="42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Windows </a:t>
            </a:r>
            <a:r>
              <a:rPr b="1" lang="ko-KR" sz="2200" spc="-1" strike="noStrike">
                <a:solidFill>
                  <a:srgbClr val="ffffff"/>
                </a:solidFill>
                <a:latin typeface="Tahoma"/>
              </a:rPr>
              <a:t>서버 빌드 준비</a:t>
            </a: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ame/src/limit_time.h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생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같은 폴더 내의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pdate_limit_time.py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실행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: Python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필요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akefile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과는 달리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sualStudio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프로젝트 빌드 과정에 포함되지 않음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슬라이드 번호 개체 틀 3"/>
          <p:cNvSpPr/>
          <p:nvPr/>
        </p:nvSpPr>
        <p:spPr>
          <a:xfrm>
            <a:off x="8388360" y="6429240"/>
            <a:ext cx="60624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E0694-31C7-46EE-99F3-9FFBC653327E}" type="slidenum">
              <a:rPr b="0" lang="en-US" sz="1000" spc="-1" strike="noStrike">
                <a:solidFill>
                  <a:srgbClr val="969696"/>
                </a:solidFill>
                <a:latin typeface="Tahoma"/>
                <a:ea typeface="돋움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8000" y="192240"/>
            <a:ext cx="8928000" cy="42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Windows </a:t>
            </a:r>
            <a:r>
              <a:rPr b="1" lang="ko-KR" sz="2200" spc="-1" strike="noStrike">
                <a:solidFill>
                  <a:srgbClr val="ffffff"/>
                </a:solidFill>
                <a:latin typeface="Tahoma"/>
              </a:rPr>
              <a:t>서버 실행 준비</a:t>
            </a: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ONFIG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설정 파일 구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ysql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서버 접속 정보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vIL DLL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복사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libdevil/win32/bin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에서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ame, auth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디렉토리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b, game, auth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디렉토리에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log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하위디렉토리 생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ame/mark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디렉토리에 길드마크 이미지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인덱스 파일 복사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reeBSD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개발 테스트 서버에서 복사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현재 길드마크 인덱스 파일이 없는 경우 클라이언트 로그인 불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슬라이드 번호 개체 틀 3"/>
          <p:cNvSpPr/>
          <p:nvPr/>
        </p:nvSpPr>
        <p:spPr>
          <a:xfrm>
            <a:off x="8388360" y="6429240"/>
            <a:ext cx="60624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5927F-C8D5-40BE-82BC-1A32B25EE19D}" type="slidenum">
              <a:rPr b="0" lang="en-US" sz="1000" spc="-1" strike="noStrike">
                <a:solidFill>
                  <a:srgbClr val="969696"/>
                </a:solidFill>
                <a:latin typeface="Tahoma"/>
                <a:ea typeface="돋움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8000" y="192240"/>
            <a:ext cx="8928000" cy="42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ffff"/>
                </a:solidFill>
                <a:latin typeface="Tahoma"/>
              </a:rPr>
              <a:t>작업 시 주의 사항</a:t>
            </a: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: </a:t>
            </a:r>
            <a:r>
              <a:rPr b="1" lang="ko-KR" sz="2200" spc="-1" strike="noStrike">
                <a:solidFill>
                  <a:srgbClr val="ffffff"/>
                </a:solidFill>
                <a:latin typeface="Tahoma"/>
              </a:rPr>
              <a:t>공통</a:t>
            </a: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akefile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과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sualStudio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프로젝트 모두 항상 빌드 가능하게 유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Make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등에 의존하지 않는 한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다중 프로젝트 구성 수동 관리 필요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소스 파일 추가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제거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이름 변경 등이 발생하는 경우 특히 주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텍스트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파일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End-of-line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문자에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NIX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관례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사용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sual Studio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에서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NIX EOL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표시에 문제 없음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슬라이드 번호 개체 틀 3"/>
          <p:cNvSpPr/>
          <p:nvPr/>
        </p:nvSpPr>
        <p:spPr>
          <a:xfrm>
            <a:off x="8388360" y="6429240"/>
            <a:ext cx="60624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02F32-FD39-4F42-8788-82B104446880}" type="slidenum">
              <a:rPr b="0" lang="en-US" sz="1000" spc="-1" strike="noStrike">
                <a:solidFill>
                  <a:srgbClr val="969696"/>
                </a:solidFill>
                <a:latin typeface="Tahoma"/>
                <a:ea typeface="돋움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0T07:19:49Z</dcterms:created>
  <dc:creator>hjjoo</dc:creator>
  <dc:description/>
  <dc:language>en-US</dc:language>
  <cp:lastModifiedBy>cpascal</cp:lastModifiedBy>
  <dcterms:modified xsi:type="dcterms:W3CDTF">2011-07-21T07:39:12Z</dcterms:modified>
  <cp:revision>210</cp:revision>
  <dc:subject/>
  <dc:title>슬라이드 1</dc:title>
</cp:coreProperties>
</file>